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6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6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1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EB03-1CFE-415B-B31E-CE0EC815DBA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e – then next sl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rious groups have been working to analyse current practice and assimilate the best of what’s happening.  This report:  ‘Developing policy, principles and practice in primary school science assessment’ involved many nationally known primary science experts and was chaired by Wynne Harlen.  A summary of proposals, reflecting best practice, was developed and shared with DfE.</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1DC3-80E1-45D4-9A88-DE17CC92EA36}"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scribe stages of pyramid.  First stage – the bulk of effort at formative level, day to day, on-going teacher assessment, informing future learning and linked directly to future planning for lear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eeds into annual reporting to parents, which is a summative ‘snapshot’ of progress, and then to end of KS judg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isjoint can be between the formative, on-going, ‘building up a picture’ of children’s progress and the summative layers of the pyramid.  Teachers (and schools) sometimes fail to make enough use of all the formative assessment knowledge of children they have, feeling they should use something else to structure their summative judgements.  This is where ‘mini-tests’, other published material or SL produced material can be used, ‘end of unit style,’ can be implemented – creating lots of work and providing very little assessment information of value.  In the worst practice, these summative checks are not seen as part of a wider assessment picture, but are seen as somehow more valid than the teacher assessment information that is also available.</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CC73C-0CF2-4C02-B6A9-4FBEC84858FF}"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ience has been reinforced as a core subject in new NC.  Myth busting - It always has been a core subject but profile slipped, largely because of the removal of KS2 SAT (a good thing) but allowed HTs and some schools to ‘demote’ science, particularly in Y6.  This factor is mentioned in ‘Maintaining Curiosity’ By Brian Cartwright HMCI Science lead – tri-ennial report published in November 2013.  This refers to the worrying decline (in some schools) of science, because of the removal of the SATs – very real.</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curriculum implemented from September 2014 – Y2 and Y6 will be assessed against current curriculum and PoS in Summer 2015.  Outcomes expressed in levels.</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 assessment against new PoS and without levels in Summer 2016.  Children will be assessed for ‘mastery’ of the programme of study and whether they exceed or fall below age related expectations.</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ultation – as of January 2014, still awaiting outcomes and response.</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assessment statutory at end of KS, until at least 2016.</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ennial testing continues (see next slide)</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2FC9EF4-9807-40A7-9660-CD4483D22D8D}" type="slidenum">
              <a:rPr b="0" lang="en-GB" sz="1300" spc="-1" strike="noStrike">
                <a:solidFill>
                  <a:srgbClr val="000000"/>
                </a:solidFill>
                <a:latin typeface="Times New Roman"/>
              </a:rPr>
              <a:t>&lt;number&gt;</a:t>
            </a:fld>
            <a:endParaRPr b="0" lang="en-US" sz="13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ppening this year – 2014, against current PoS and same format questions, measured in levels (3,4 and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will be informed in advance that a visit will be made.  Probably just before February half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HING TO WORRY ABOUT!  Very important that teachers know this.  The data will not be held against the school.  Only 5 children, regardless of size of cohort.  External administrator will make visit and administer tests with children at some point within June.  Tests will be drawn from a bank, not a single test.  Each child completes three short tests – about 20minutes – biology, chemistry, physics with Sc1 fully integr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2016 – next sample test – the new curriculum will be tested and the questions will not be against levels.  Children’s mastery of the curriculum will be tested.  Questions will be pitched to deliver different degrees of challenge, using a Bloom’s taxonomy type model.  Performance descriptors will be issued by STA (Standards and Testing Agency) shortly that describe ‘secondary readiness’ at Y6.  These are likely to be brief and limited in scope.  So don’t expect anything that will be particularly useful, necessarily!</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D5F6-248F-4338-A080-CA8D863E1694}"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y little information in the NC PoS about assessment.  Much discussion about where next.  This statement is important to reference.  We want, and need, to see progress and have in mind progression in the big ideas of science.  The idea of ‘security’ of understanding is key and links to the nature of the new ‘mastery curriculum’.  We will assess children as to whether they have achieved age related expectation and mastered the curriculum PoS at any given point.</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405D-0AF3-4C07-817E-75E3D90E99C1}"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6A8E1-C5E3-4A3B-80FB-A373EC9F9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5ABFD-F50A-4E27-95EA-BCDDF3411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2E9B3D-FAD5-4B68-B358-B7FF00077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4234F-8747-462F-B672-0BC1CE408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09E64-34C2-42A2-B57F-770FB89A3A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F34EB-0CB1-4F8D-AB3E-32FB7469F4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047A1-EEDD-49C5-AB8E-25FBFDC2E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D84F0-158B-4AEE-BCAC-3152CAB68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F7FD0-7B5B-4660-8FCD-A7A18A99D6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CCF05-1533-4936-9A72-842A015C0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FA812-F647-493C-BED8-38B09BE6C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013BDA-7F2B-46CE-B7CD-F08BD3157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99528-F7B6-4021-85C1-FD8DC31E5D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AA485-E9BC-41D0-A730-4C218EFB78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60CA7-CA59-47E0-B1D1-D82A72A3F2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2D617-E646-4AE9-877C-D55D69068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328A3-5984-4545-9000-12D19721B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5"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7"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29"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AB610-8BCD-4BD0-8258-C1C30FFC4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2"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6"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4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4"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E7E2C-CE3F-4924-84B2-8702E9C17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DE27C-4F76-478B-8989-86153CFAE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19C2D-FAC2-4003-A49A-60C394984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88CFE-65F8-4A34-881B-4D2A04E968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4BFD3-BC71-41F0-94BD-45CC29B6A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2418A-1DA1-436D-9F05-575D72E500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5404-A1A8-4B11-B454-83C19456E8E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E5DE-7F47-4504-8D13-D58A98169C75}"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6" name="Rectangle 18"/>
          <p:cNvSpPr/>
          <p:nvPr/>
        </p:nvSpPr>
        <p:spPr>
          <a:xfrm>
            <a:off x="997200" y="6561000"/>
            <a:ext cx="1727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mpanula Consulting</a:t>
            </a:r>
            <a:endParaRPr b="0" lang="en-US" sz="1200" spc="-1" strike="noStrike">
              <a:solidFill>
                <a:srgbClr val="000000"/>
              </a:solidFill>
              <a:latin typeface="Palatino Linotype"/>
            </a:endParaRPr>
          </a:p>
        </p:txBody>
      </p:sp>
      <p:sp>
        <p:nvSpPr>
          <p:cNvPr id="117" name="Rectangle 19"/>
          <p:cNvSpPr/>
          <p:nvPr/>
        </p:nvSpPr>
        <p:spPr>
          <a:xfrm>
            <a:off x="-3240" y="0"/>
            <a:ext cx="900000" cy="6858000"/>
          </a:xfrm>
          <a:prstGeom prst="rect">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118" name="Picture 20" descr=""/>
          <p:cNvPicPr/>
          <p:nvPr/>
        </p:nvPicPr>
        <p:blipFill>
          <a:blip r:embed="rId2"/>
          <a:stretch/>
        </p:blipFill>
        <p:spPr>
          <a:xfrm>
            <a:off x="212760" y="2395440"/>
            <a:ext cx="542880" cy="579600"/>
          </a:xfrm>
          <a:prstGeom prst="rect">
            <a:avLst/>
          </a:prstGeom>
          <a:ln w="0">
            <a:noFill/>
          </a:ln>
        </p:spPr>
      </p:pic>
      <p:pic>
        <p:nvPicPr>
          <p:cNvPr id="119" name="Picture 21" descr=""/>
          <p:cNvPicPr/>
          <p:nvPr/>
        </p:nvPicPr>
        <p:blipFill>
          <a:blip r:embed="rId3"/>
          <a:stretch/>
        </p:blipFill>
        <p:spPr>
          <a:xfrm>
            <a:off x="212760" y="3906720"/>
            <a:ext cx="542880" cy="579600"/>
          </a:xfrm>
          <a:prstGeom prst="rect">
            <a:avLst/>
          </a:prstGeom>
          <a:ln w="0">
            <a:noFill/>
          </a:ln>
        </p:spPr>
      </p:pic>
      <p:pic>
        <p:nvPicPr>
          <p:cNvPr id="120" name="Picture 22" descr=""/>
          <p:cNvPicPr/>
          <p:nvPr/>
        </p:nvPicPr>
        <p:blipFill>
          <a:blip r:embed="rId4"/>
          <a:stretch/>
        </p:blipFill>
        <p:spPr>
          <a:xfrm>
            <a:off x="212760" y="5376960"/>
            <a:ext cx="542880" cy="579240"/>
          </a:xfrm>
          <a:prstGeom prst="rect">
            <a:avLst/>
          </a:prstGeom>
          <a:ln w="0">
            <a:noFill/>
          </a:ln>
        </p:spPr>
      </p:pic>
      <p:pic>
        <p:nvPicPr>
          <p:cNvPr id="121" name="Picture 23" descr=""/>
          <p:cNvPicPr/>
          <p:nvPr/>
        </p:nvPicPr>
        <p:blipFill>
          <a:blip r:embed="rId5"/>
          <a:stretch/>
        </p:blipFill>
        <p:spPr>
          <a:xfrm>
            <a:off x="219240" y="1030320"/>
            <a:ext cx="542880" cy="579240"/>
          </a:xfrm>
          <a:prstGeom prst="rect">
            <a:avLst/>
          </a:prstGeom>
          <a:ln w="0">
            <a:noFill/>
          </a:ln>
        </p:spPr>
      </p:pic>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3"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hyperlink" Target="mailto:naomi@primary-science.co.uk" TargetMode="External"/><Relationship Id="rId2" Type="http://schemas.openxmlformats.org/officeDocument/2006/relationships/hyperlink" Target="http://www.primary-science.co.uk/"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692360" y="2130120"/>
            <a:ext cx="5759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cience coordinator meeting</a:t>
            </a:r>
            <a:endParaRPr b="0" lang="en-US" sz="3200" spc="-1" strike="noStrike">
              <a:solidFill>
                <a:srgbClr val="000000"/>
              </a:solidFill>
              <a:latin typeface="Trebuchet MS"/>
            </a:endParaRPr>
          </a:p>
        </p:txBody>
      </p:sp>
      <p:sp>
        <p:nvSpPr>
          <p:cNvPr id="168"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rial"/>
                <a:hlinkClick r:id="rId1"/>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rial"/>
                <a:hlinkClick r:id="rId2"/>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5280" y="182520"/>
            <a:ext cx="8408880" cy="13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cience Assessment</a:t>
            </a:r>
            <a:endParaRPr b="0" lang="en-US" sz="4000" spc="-1" strike="noStrike">
              <a:solidFill>
                <a:srgbClr val="000000"/>
              </a:solidFill>
              <a:latin typeface="Trebuchet MS"/>
            </a:endParaRPr>
          </a:p>
        </p:txBody>
      </p:sp>
      <p:sp>
        <p:nvSpPr>
          <p:cNvPr id="170" name=""/>
          <p:cNvSpPr txBox="1"/>
          <p:nvPr/>
        </p:nvSpPr>
        <p:spPr>
          <a:xfrm>
            <a:off x="178920" y="1700280"/>
            <a:ext cx="8425080" cy="4967280"/>
          </a:xfrm>
          <a:prstGeom prst="rect">
            <a:avLst/>
          </a:prstGeom>
          <a:noFill/>
          <a:ln w="0">
            <a:noFill/>
          </a:ln>
        </p:spPr>
        <p:txBody>
          <a:bodyPr anchor="t">
            <a:normAutofit/>
          </a:bodyPr>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achers use formative assessment through the year…</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is used to provide a narrative annual report to parents and is passed to next teacher or school</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end of KS1, LKS2 and UKS2 teachers judge whether each pupil ‘has achieved’ or ‘not yet achieved’ in ‘science knowledge and understanding’ and ‘working scientifically’…</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end of each KS, individual pupil records are aggregated for each class, school or particular groups </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year proportion of Y6 children achieving  LO’s  in UKS2 reported to parents and governors – not collected centrally</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 national level – sample testing of Y6 pupils only…</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7453440" y="4724280"/>
            <a:ext cx="1350720" cy="180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
          <p:cNvSpPr/>
          <p:nvPr/>
        </p:nvSpPr>
        <p:spPr>
          <a:xfrm>
            <a:off x="266760" y="-147600"/>
            <a:ext cx="8985240" cy="7005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3" name="Rectangle 1"/>
          <p:cNvSpPr/>
          <p:nvPr/>
        </p:nvSpPr>
        <p:spPr>
          <a:xfrm flipV="1">
            <a:off x="3200400" y="5588640"/>
            <a:ext cx="5943600" cy="1268280"/>
          </a:xfrm>
          <a:prstGeom prst="rect">
            <a:avLst/>
          </a:prstGeom>
          <a:solidFill>
            <a:srgbClr val="4f81bd"/>
          </a:solidFill>
          <a:ln w="25560">
            <a:solidFill>
              <a:srgbClr val="243f60"/>
            </a:solidFill>
            <a:miter/>
          </a:ln>
        </p:spPr>
        <p:style>
          <a:lnRef idx="0"/>
          <a:fillRef idx="0"/>
          <a:effectRef idx="0"/>
          <a:fontRef idx="minor"/>
        </p:style>
        <p:txBody>
          <a:bodyPr lIns="90000" rIns="90000" tIns="46800" bIns="46800" anchor="ctr">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p:txBody>
      </p:sp>
      <p:sp>
        <p:nvSpPr>
          <p:cNvPr id="174" name="Text Box 6"/>
          <p:cNvSpPr/>
          <p:nvPr/>
        </p:nvSpPr>
        <p:spPr>
          <a:xfrm>
            <a:off x="4427640" y="4599000"/>
            <a:ext cx="3390840" cy="990720"/>
          </a:xfrm>
          <a:prstGeom prst="rect">
            <a:avLst/>
          </a:prstGeom>
          <a:solidFill>
            <a:srgbClr val="4f81bd"/>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5" name="Text Box 6"/>
          <p:cNvSpPr/>
          <p:nvPr/>
        </p:nvSpPr>
        <p:spPr>
          <a:xfrm>
            <a:off x="5041800" y="3627360"/>
            <a:ext cx="2089080" cy="971640"/>
          </a:xfrm>
          <a:prstGeom prst="rect">
            <a:avLst/>
          </a:prstGeom>
          <a:solidFill>
            <a:srgbClr val="4f81bd"/>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6" name="Text Box 6"/>
          <p:cNvSpPr/>
          <p:nvPr/>
        </p:nvSpPr>
        <p:spPr>
          <a:xfrm>
            <a:off x="5530680" y="2838600"/>
            <a:ext cx="1068480" cy="788760"/>
          </a:xfrm>
          <a:prstGeom prst="rect">
            <a:avLst/>
          </a:prstGeom>
          <a:solidFill>
            <a:srgbClr val="4f81bd"/>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7" name="Text Box 6"/>
          <p:cNvSpPr/>
          <p:nvPr/>
        </p:nvSpPr>
        <p:spPr>
          <a:xfrm>
            <a:off x="5813280" y="1976400"/>
            <a:ext cx="503280" cy="863640"/>
          </a:xfrm>
          <a:prstGeom prst="rect">
            <a:avLst/>
          </a:prstGeom>
          <a:solidFill>
            <a:srgbClr val="4f81bd"/>
          </a:solidFill>
          <a:ln w="648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8" name="Straight Connector 18"/>
          <p:cNvSpPr/>
          <p:nvPr/>
        </p:nvSpPr>
        <p:spPr>
          <a:xfrm flipH="1">
            <a:off x="971280" y="6453360"/>
            <a:ext cx="2228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79" name="Rectangle 4"/>
          <p:cNvSpPr/>
          <p:nvPr/>
        </p:nvSpPr>
        <p:spPr>
          <a:xfrm>
            <a:off x="7612200" y="1216080"/>
            <a:ext cx="583920" cy="779400"/>
          </a:xfrm>
          <a:prstGeom prst="rect">
            <a:avLst/>
          </a:prstGeom>
          <a:solidFill>
            <a:srgbClr val="c00000"/>
          </a:solidFill>
          <a:ln w="25560">
            <a:solidFill>
              <a:srgbClr val="440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0" name="Rectangle 8"/>
          <p:cNvSpPr/>
          <p:nvPr/>
        </p:nvSpPr>
        <p:spPr>
          <a:xfrm>
            <a:off x="6066000" y="1557360"/>
            <a:ext cx="1546200" cy="44280"/>
          </a:xfrm>
          <a:prstGeom prst="rect">
            <a:avLst/>
          </a:prstGeom>
          <a:solidFill>
            <a:srgbClr val="000000"/>
          </a:solidFill>
          <a:ln w="25560">
            <a:solidFill>
              <a:srgbClr val="243f60"/>
            </a:solidFill>
            <a:miter/>
          </a:ln>
        </p:spPr>
        <p:style>
          <a:lnRef idx="0"/>
          <a:fillRef idx="0"/>
          <a:effectRef idx="0"/>
          <a:fontRef idx="minor"/>
        </p:style>
        <p:txBody>
          <a:bodyPr lIns="90000" rIns="90000" tIns="-2520" bIns="-2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1" name="Down Arrow 9"/>
          <p:cNvSpPr/>
          <p:nvPr/>
        </p:nvSpPr>
        <p:spPr>
          <a:xfrm>
            <a:off x="6045120" y="1557360"/>
            <a:ext cx="82800" cy="366840"/>
          </a:xfrm>
          <a:prstGeom prst="downArrow">
            <a:avLst>
              <a:gd name="adj1" fmla="val 50000"/>
              <a:gd name="adj2" fmla="val 49986"/>
            </a:avLst>
          </a:prstGeom>
          <a:solidFill>
            <a:srgbClr val="000000"/>
          </a:solidFill>
          <a:ln w="25560">
            <a:solidFill>
              <a:srgbClr val="243f6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2" name="TextBox 5"/>
          <p:cNvSpPr/>
          <p:nvPr/>
        </p:nvSpPr>
        <p:spPr>
          <a:xfrm>
            <a:off x="8196120" y="-42840"/>
            <a:ext cx="94788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3" name="TextBox 2"/>
          <p:cNvSpPr/>
          <p:nvPr/>
        </p:nvSpPr>
        <p:spPr>
          <a:xfrm>
            <a:off x="-22320" y="-127080"/>
            <a:ext cx="993960" cy="695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4" name="PlaceHolder 1"/>
          <p:cNvSpPr>
            <a:spLocks noGrp="1"/>
          </p:cNvSpPr>
          <p:nvPr>
            <p:ph type="title"/>
          </p:nvPr>
        </p:nvSpPr>
        <p:spPr>
          <a:xfrm>
            <a:off x="266760" y="260280"/>
            <a:ext cx="792936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rebuchet MS"/>
              </a:rPr>
              <a:t>Uses of assessment in the school</a:t>
            </a:r>
            <a:endParaRPr b="0" lang="en-US" sz="3200" spc="-1" strike="noStrike">
              <a:solidFill>
                <a:srgbClr val="000000"/>
              </a:solidFill>
              <a:latin typeface="Trebuchet MS"/>
            </a:endParaRPr>
          </a:p>
        </p:txBody>
      </p:sp>
      <p:sp>
        <p:nvSpPr>
          <p:cNvPr id="185" name="TextBox 11"/>
          <p:cNvSpPr/>
          <p:nvPr/>
        </p:nvSpPr>
        <p:spPr>
          <a:xfrm>
            <a:off x="463680" y="3770280"/>
            <a:ext cx="3600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Individual pupil assessment and record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mmative judgements of progress of pupils at each key stage</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ual reporting to parents</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On-going formative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assessment</a:t>
            </a:r>
            <a:endParaRPr b="0" lang="en-US" sz="18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6" name="TextBox 14"/>
          <p:cNvSpPr/>
          <p:nvPr/>
        </p:nvSpPr>
        <p:spPr>
          <a:xfrm>
            <a:off x="463680" y="1976400"/>
            <a:ext cx="4392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Class and school records</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hool ‘Annual Report’: the end of Upper Key Stage 2</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nal school evaluation: at the end of each key stage</a:t>
            </a:r>
            <a:endParaRPr b="0" lang="en-US" sz="1800" spc="-1" strike="noStrike">
              <a:solidFill>
                <a:srgbClr val="000000"/>
              </a:solidFill>
              <a:latin typeface="Palatino Linotype"/>
            </a:endParaRPr>
          </a:p>
        </p:txBody>
      </p:sp>
      <p:sp>
        <p:nvSpPr>
          <p:cNvPr id="187" name="TextBox 23"/>
          <p:cNvSpPr/>
          <p:nvPr/>
        </p:nvSpPr>
        <p:spPr>
          <a:xfrm>
            <a:off x="463680" y="1197000"/>
            <a:ext cx="484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Arial"/>
              </a:rPr>
              <a:t>National Performance</a:t>
            </a:r>
            <a:endParaRPr b="0" lang="en-US" sz="18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testing of groups of pupils </a:t>
            </a:r>
            <a:endParaRPr b="0" lang="en-US" sz="1800" spc="-1" strike="noStrike">
              <a:solidFill>
                <a:srgbClr val="000000"/>
              </a:solidFill>
              <a:latin typeface="Palatino Linotype"/>
            </a:endParaRPr>
          </a:p>
        </p:txBody>
      </p:sp>
      <p:sp>
        <p:nvSpPr>
          <p:cNvPr id="188" name="TextBox 1"/>
          <p:cNvSpPr/>
          <p:nvPr/>
        </p:nvSpPr>
        <p:spPr>
          <a:xfrm>
            <a:off x="611280" y="6345360"/>
            <a:ext cx="2589120" cy="544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9" name="Straight Connector 13"/>
          <p:cNvSpPr/>
          <p:nvPr/>
        </p:nvSpPr>
        <p:spPr>
          <a:xfrm flipH="1">
            <a:off x="463320" y="3627360"/>
            <a:ext cx="45781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90" name="Straight Connector 16"/>
          <p:cNvSpPr/>
          <p:nvPr/>
        </p:nvSpPr>
        <p:spPr>
          <a:xfrm flipH="1">
            <a:off x="463680" y="1976400"/>
            <a:ext cx="5349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333360"/>
            <a:ext cx="799128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ssessing science – Where are we now?</a:t>
            </a:r>
            <a:endParaRPr b="0" lang="en-US" sz="4400" spc="-1" strike="noStrike">
              <a:solidFill>
                <a:srgbClr val="000000"/>
              </a:solidFill>
              <a:latin typeface="Trebuchet MS"/>
            </a:endParaRPr>
          </a:p>
        </p:txBody>
      </p:sp>
      <p:sp>
        <p:nvSpPr>
          <p:cNvPr id="192" name=""/>
          <p:cNvSpPr txBox="1"/>
          <p:nvPr/>
        </p:nvSpPr>
        <p:spPr>
          <a:xfrm>
            <a:off x="468000" y="1844280"/>
            <a:ext cx="8280360" cy="482436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ing national picture</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as a core subject, alongside English and Maths</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gramme of Study implemented (apart from Y2 and Y6) from September 2014</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ssessment against new PoS and without levels – Summer 2016 </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ltation on assessment took place last year (January 2014)</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assessment – statutory at end of KS1 and KS2 until at least 2016</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ennial sample tests to continue in Y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18864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Sample testing update </a:t>
            </a:r>
            <a:br>
              <a:rPr sz="4400"/>
            </a:br>
            <a:r>
              <a:rPr b="1" lang="en-GB" sz="4400" spc="-1" strike="noStrike">
                <a:solidFill>
                  <a:srgbClr val="000000"/>
                </a:solidFill>
                <a:latin typeface="Trebuchet MS"/>
              </a:rPr>
              <a:t>November 2013</a:t>
            </a:r>
            <a:endParaRPr b="0" lang="en-US" sz="4400" spc="-1" strike="noStrike">
              <a:solidFill>
                <a:srgbClr val="000000"/>
              </a:solidFill>
              <a:latin typeface="Trebuchet MS"/>
            </a:endParaRPr>
          </a:p>
        </p:txBody>
      </p:sp>
      <p:sp>
        <p:nvSpPr>
          <p:cNvPr id="194" name=""/>
          <p:cNvSpPr txBox="1"/>
          <p:nvPr/>
        </p:nvSpPr>
        <p:spPr>
          <a:xfrm>
            <a:off x="468000" y="1700280"/>
            <a:ext cx="8280360" cy="4656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Summer 2014</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 children across English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ve children selected by external administrator who visits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hild completes three short test booklets; one for each programme of study with Sc1 / working scientifically fully integrated</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is not used for league tables or fed back to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cted at national lev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questions will be shared, from first selection used, on completion of first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11280" y="260280"/>
            <a:ext cx="712944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ssessing science:</a:t>
            </a:r>
            <a:br>
              <a:rPr sz="4400"/>
            </a:br>
            <a:r>
              <a:rPr b="0" lang="en-GB" sz="4400" spc="-1" strike="noStrike">
                <a:solidFill>
                  <a:srgbClr val="000000"/>
                </a:solidFill>
                <a:latin typeface="Trebuchet MS"/>
              </a:rPr>
              <a:t>In the new curriculum? </a:t>
            </a:r>
            <a:endParaRPr b="0" lang="en-US" sz="4400" spc="-1" strike="noStrike">
              <a:solidFill>
                <a:srgbClr val="000000"/>
              </a:solidFill>
              <a:latin typeface="Trebuchet MS"/>
            </a:endParaRPr>
          </a:p>
        </p:txBody>
      </p:sp>
      <p:sp>
        <p:nvSpPr>
          <p:cNvPr id="196" name=""/>
          <p:cNvSpPr txBox="1"/>
          <p:nvPr/>
        </p:nvSpPr>
        <p:spPr>
          <a:xfrm>
            <a:off x="468360" y="1699920"/>
            <a:ext cx="8207280" cy="4753080"/>
          </a:xfrm>
          <a:prstGeom prst="rect">
            <a:avLst/>
          </a:prstGeom>
          <a:noFill/>
          <a:ln w="0">
            <a:noFill/>
          </a:ln>
        </p:spPr>
        <p:txBody>
          <a:bodyPr anchor="t">
            <a:normAutofit/>
          </a:bodyPr>
          <a:p>
            <a:pPr lvl="1"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grammes of study describe a sequence of knowledge and concepts. While it is </a:t>
            </a:r>
            <a:r>
              <a:rPr b="1" lang="en-GB" sz="2400" spc="-1" strike="noStrike">
                <a:solidFill>
                  <a:srgbClr val="000000"/>
                </a:solidFill>
                <a:latin typeface="Arial"/>
              </a:rPr>
              <a:t>important that pupils make progress</a:t>
            </a:r>
            <a:r>
              <a:rPr b="0" lang="en-GB" sz="2400" spc="-1" strike="noStrike">
                <a:solidFill>
                  <a:srgbClr val="000000"/>
                </a:solidFill>
                <a:latin typeface="Arial"/>
              </a:rPr>
              <a:t>, it is also vitally important that they </a:t>
            </a:r>
            <a:r>
              <a:rPr b="1" lang="en-GB" sz="2400" spc="-1" strike="noStrike">
                <a:solidFill>
                  <a:srgbClr val="000000"/>
                </a:solidFill>
                <a:latin typeface="Arial"/>
              </a:rPr>
              <a:t>develop secure understanding of each key block of knowledge and concepts </a:t>
            </a:r>
            <a:r>
              <a:rPr b="0" lang="en-GB" sz="2400" spc="-1" strike="noStrike">
                <a:solidFill>
                  <a:srgbClr val="000000"/>
                </a:solidFill>
                <a:latin typeface="Arial"/>
              </a:rPr>
              <a:t>in order to progress to the next stage.</a:t>
            </a:r>
            <a:endParaRPr b="0" lang="en-US" sz="2400" spc="-1" strike="noStrike">
              <a:solidFill>
                <a:srgbClr val="000000"/>
              </a:solidFill>
              <a:latin typeface="Arial"/>
            </a:endParaRPr>
          </a:p>
          <a:p>
            <a:pPr lvl="1"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ecure, superficial understanding will not allow genuine progression: pupils may struggle at key points of transition (such as between primary and secondary school), build up serious misconceptions, and/or have significant difficulties in understanding higher-order cont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Salmon, Davina</cp:lastModifiedBy>
  <dcterms:modified xsi:type="dcterms:W3CDTF">2014-06-20T09:27:32Z</dcterms:modified>
  <cp:revision>100</cp:revision>
  <dc:subject/>
  <dc:title>Science coordinators’ meeting 22nd September 2011</dc:title>
</cp:coreProperties>
</file>